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C0E-820A-4C9C-AB65-9CAEF531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D4D-DC36-4089-98C2-ED1F526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6D9-A134-47AD-876A-3E2F7704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DA7-E491-49A9-A98E-D271DA56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2DA-5A4D-4578-9DF8-39F8EC31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630-C9C8-487C-A5EF-0F4E7F70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CDF-6735-4A72-AED9-8D3DDC4A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CEB-AA92-46D0-B0E4-4D8AC9D5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BD1-2608-422A-B1DB-99998551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04B-33B5-429C-8793-17348171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51B-1772-4BEC-97E3-52D6ADE6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C24-A180-4722-864E-58D7415B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FAD7-CF73-475C-80F0-55F0B17A64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20760" y="13500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343400" y="6400800"/>
            <a:ext cx="5335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28640" y="6149880"/>
            <a:ext cx="7753320" cy="57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ключенном  контракте Заказчик публикует в течен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х рабочих дн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ОС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4792680" y="1365120"/>
            <a:ext cx="318132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1187280" y="1365120"/>
            <a:ext cx="278784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4764240" y="2479680"/>
            <a:ext cx="3238200" cy="8874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одписанный усиленной электронной подписью проект контракта, а также документ, подтверждающий предоставление обеспечения исполнения контракта (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если нет разногласий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539640" y="2492280"/>
            <a:ext cx="3287880" cy="9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без подписи проект контракт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с указанием цены и информации о товаре, конкретных показателях товара, указанных в заявке на участие в аукционе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615960" y="3900600"/>
            <a:ext cx="4748040" cy="6411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подписывает контракт электронной подписью на электронной площадк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1908000" y="804960"/>
            <a:ext cx="5832720" cy="33732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ок заключения контракта (ст. 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4"/>
          <p:cNvSpPr/>
          <p:nvPr/>
        </p:nvSpPr>
        <p:spPr>
          <a:xfrm>
            <a:off x="1187280" y="1825560"/>
            <a:ext cx="6786720" cy="2332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щение протокола (публикация) на электронной площад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4340"/>
          <p:cNvSpPr/>
          <p:nvPr/>
        </p:nvSpPr>
        <p:spPr>
          <a:xfrm>
            <a:off x="684360" y="5014800"/>
            <a:ext cx="7724520" cy="946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момента подписания Заказчиком контракта он считается заключен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этом контракт может быть заключен не ранее чем через 10 дней с даты размещения протокола на сайт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Прямая со стрелкой 14354"/>
          <p:cNvCxnSpPr/>
          <p:nvPr/>
        </p:nvCxnSpPr>
        <p:spPr>
          <a:xfrm>
            <a:off x="2580840" y="2058480"/>
            <a:ext cx="1080" cy="4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Box 14358"/>
          <p:cNvSpPr/>
          <p:nvPr/>
        </p:nvSpPr>
        <p:spPr>
          <a:xfrm>
            <a:off x="1694160" y="213192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Прямая со стрелкой 14361"/>
          <p:cNvCxnSpPr/>
          <p:nvPr/>
        </p:nvCxnSpPr>
        <p:spPr>
          <a:xfrm>
            <a:off x="3827520" y="2997000"/>
            <a:ext cx="915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TextBox 14363"/>
          <p:cNvSpPr/>
          <p:nvPr/>
        </p:nvSpPr>
        <p:spPr>
          <a:xfrm>
            <a:off x="4029480" y="257004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Прямая со стрелкой 31"/>
          <p:cNvCxnSpPr/>
          <p:nvPr/>
        </p:nvCxnSpPr>
        <p:spPr>
          <a:xfrm>
            <a:off x="4939920" y="3389400"/>
            <a:ext cx="1080" cy="475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33"/>
          <p:cNvSpPr/>
          <p:nvPr/>
        </p:nvSpPr>
        <p:spPr>
          <a:xfrm>
            <a:off x="5113440" y="3495600"/>
            <a:ext cx="10652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Прямая со стрелкой 47"/>
          <p:cNvCxnSpPr/>
          <p:nvPr/>
        </p:nvCxnSpPr>
        <p:spPr>
          <a:xfrm>
            <a:off x="2572920" y="454176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Прямая соединительная линия 9"/>
          <p:cNvSpPr/>
          <p:nvPr/>
        </p:nvSpPr>
        <p:spPr>
          <a:xfrm>
            <a:off x="5796000" y="4365720"/>
            <a:ext cx="914400" cy="9144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20760" y="13500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343400" y="6400800"/>
            <a:ext cx="5335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88840" y="6113520"/>
            <a:ext cx="797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292720" y="1365120"/>
            <a:ext cx="368928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1187280" y="1365120"/>
            <a:ext cx="278784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539640" y="2463840"/>
            <a:ext cx="3287880" cy="1071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без подписи проект контракт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с указанием цены и информации о товаре, конкретных показателях товара, указанных в заявке на участие в аукционе) 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7"/>
          <p:cNvSpPr/>
          <p:nvPr/>
        </p:nvSpPr>
        <p:spPr>
          <a:xfrm>
            <a:off x="3255840" y="5084640"/>
            <a:ext cx="3394080" cy="473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контракт, подписанный усиленной электронной подписью,  на электронной площадк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327320" y="804960"/>
            <a:ext cx="7394400" cy="33732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ок заключения контракта при наличии разногласий  (ст. 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1766880" y="1825560"/>
            <a:ext cx="5340240" cy="233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щение протокола (публикация) на электронной площад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4340"/>
          <p:cNvSpPr/>
          <p:nvPr/>
        </p:nvSpPr>
        <p:spPr>
          <a:xfrm>
            <a:off x="888840" y="5705640"/>
            <a:ext cx="7832880" cy="10990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момента подписания Заказчиком контракта он считается заключен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этом контракт может быть заключен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 ранее чем через 10 дней с даты размещения протокола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на сайт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дения о заключенном контракт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ует в течен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3-х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рабочих дней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4345"/>
          <p:cNvSpPr/>
          <p:nvPr/>
        </p:nvSpPr>
        <p:spPr>
          <a:xfrm>
            <a:off x="4525920" y="2463840"/>
            <a:ext cx="2124000" cy="809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ротокол разногласий, с замечаниями к  проекту контракт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Прямая со стрелкой 14354"/>
          <p:cNvCxnSpPr/>
          <p:nvPr/>
        </p:nvCxnSpPr>
        <p:spPr>
          <a:xfrm>
            <a:off x="2050560" y="2080800"/>
            <a:ext cx="1080" cy="4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14358"/>
          <p:cNvSpPr/>
          <p:nvPr/>
        </p:nvSpPr>
        <p:spPr>
          <a:xfrm>
            <a:off x="1330560" y="213516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Прямая со стрелкой 14361"/>
          <p:cNvCxnSpPr>
            <a:endCxn id="72" idx="1"/>
          </p:cNvCxnSpPr>
          <p:nvPr/>
        </p:nvCxnSpPr>
        <p:spPr>
          <a:xfrm>
            <a:off x="3849840" y="2871360"/>
            <a:ext cx="676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14363"/>
          <p:cNvSpPr/>
          <p:nvPr/>
        </p:nvSpPr>
        <p:spPr>
          <a:xfrm>
            <a:off x="3900960" y="254304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Прямая со стрелкой 31"/>
          <p:cNvCxnSpPr/>
          <p:nvPr/>
        </p:nvCxnSpPr>
        <p:spPr>
          <a:xfrm>
            <a:off x="5003280" y="3279600"/>
            <a:ext cx="1080" cy="31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33"/>
          <p:cNvSpPr/>
          <p:nvPr/>
        </p:nvSpPr>
        <p:spPr>
          <a:xfrm>
            <a:off x="4070520" y="3133800"/>
            <a:ext cx="79848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7"/>
          <p:cNvSpPr/>
          <p:nvPr/>
        </p:nvSpPr>
        <p:spPr>
          <a:xfrm>
            <a:off x="6829560" y="2255760"/>
            <a:ext cx="1398600" cy="9309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Не позднее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13 дней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с момента размещения протокола подведения итого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1"/>
          <p:cNvSpPr/>
          <p:nvPr/>
        </p:nvSpPr>
        <p:spPr>
          <a:xfrm>
            <a:off x="888840" y="3616200"/>
            <a:ext cx="4184640" cy="809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доработанный проект контракта, либо повторно размещает проект контракта с указанием в отдельном документе причин отказа учесть полностью или частично содержащиеся в протоколе разногласий замечан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Соединительная линия уступом 8"/>
          <p:cNvCxnSpPr/>
          <p:nvPr/>
        </p:nvCxnSpPr>
        <p:spPr>
          <a:xfrm rot="5400000">
            <a:off x="8039160" y="1805760"/>
            <a:ext cx="1116720" cy="768960"/>
          </a:xfrm>
          <a:prstGeom prst="bentConnector2">
            <a:avLst/>
          </a:prstGeom>
          <a:ln w="2844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82" name="TextBox 11"/>
          <p:cNvSpPr/>
          <p:nvPr/>
        </p:nvSpPr>
        <p:spPr>
          <a:xfrm>
            <a:off x="5987880" y="3444840"/>
            <a:ext cx="2610000" cy="13114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одписанный усиленной электронной подписью проект контракта, а также документ, подтверждающий предоставление обеспечения исполнения контракта,  или протокол разноглас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5151600" y="3535200"/>
            <a:ext cx="78876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рабочих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Прямая со стрелкой 20"/>
          <p:cNvCxnSpPr>
            <a:stCxn id="80" idx="3"/>
          </p:cNvCxnSpPr>
          <p:nvPr/>
        </p:nvCxnSpPr>
        <p:spPr>
          <a:xfrm flipV="1">
            <a:off x="5073480" y="4001760"/>
            <a:ext cx="9151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3"/>
          <p:cNvCxnSpPr/>
          <p:nvPr/>
        </p:nvCxnSpPr>
        <p:spPr>
          <a:xfrm>
            <a:off x="6465600" y="4744800"/>
            <a:ext cx="1080" cy="36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TextBox 25"/>
          <p:cNvSpPr/>
          <p:nvPr/>
        </p:nvSpPr>
        <p:spPr>
          <a:xfrm>
            <a:off x="5073480" y="4603680"/>
            <a:ext cx="101124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Прямая со стрелкой 19"/>
          <p:cNvCxnSpPr>
            <a:stCxn id="79" idx="1"/>
            <a:endCxn id="72" idx="3"/>
          </p:cNvCxnSpPr>
          <p:nvPr/>
        </p:nvCxnSpPr>
        <p:spPr>
          <a:xfrm flipH="1">
            <a:off x="6649200" y="2725560"/>
            <a:ext cx="180360" cy="14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Прямая со стрелкой 28"/>
          <p:cNvCxnSpPr/>
          <p:nvPr/>
        </p:nvCxnSpPr>
        <p:spPr>
          <a:xfrm>
            <a:off x="7529040" y="3233880"/>
            <a:ext cx="1080" cy="211680"/>
          </a:xfrm>
          <a:prstGeom prst="straightConnector1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</p:cxnSp>
      <p:cxnSp>
        <p:nvCxnSpPr>
          <p:cNvPr id="89" name="Прямая со стрелкой 14335"/>
          <p:cNvCxnSpPr/>
          <p:nvPr/>
        </p:nvCxnSpPr>
        <p:spPr>
          <a:xfrm>
            <a:off x="7529040" y="3233880"/>
            <a:ext cx="1080" cy="18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35388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187280" y="5950080"/>
            <a:ext cx="7201080" cy="647640"/>
          </a:xfrm>
          <a:prstGeom prst="rect">
            <a:avLst/>
          </a:prstGeom>
          <a:solidFill>
            <a:srgbClr val="c2fff0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о заключенном контракте заказч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осит в течение 3-х рабочих дней в реестр контрактов на ОО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343400" y="3357720"/>
            <a:ext cx="4549680" cy="718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ято решение о соответствии требованиям, установленным документацией об электронном аукционе, только одной второй части заявки (ч.13 ст. 6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187280" y="5121360"/>
            <a:ext cx="7128000" cy="5806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тракт заключается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ке, установленном статьей 70  Закона 44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5103720" y="831960"/>
            <a:ext cx="2997360" cy="390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. Аукцион не состоял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1096920" y="1380960"/>
            <a:ext cx="2787840" cy="586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токол подведения итогов (ч. 8 ст. 6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4343400" y="1379520"/>
            <a:ext cx="4549680" cy="295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ана только одна заявка (ч.16 ст. 6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16"/>
          <p:cNvSpPr/>
          <p:nvPr/>
        </p:nvSpPr>
        <p:spPr>
          <a:xfrm>
            <a:off x="4343400" y="1865160"/>
            <a:ext cx="4549680" cy="3985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ято решение о признании только одного участника участником аукциона (ч.8 ст. 6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4343400" y="2421000"/>
            <a:ext cx="4549680" cy="7617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ечение 10 мин. после начала аукциона ни один из его участников не подал предложение о цене контракта (ч.20 ст. 6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1096920" y="836640"/>
            <a:ext cx="2787840" cy="368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1. Аукцион состоял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2"/>
          <p:cNvSpPr/>
          <p:nvPr/>
        </p:nvSpPr>
        <p:spPr>
          <a:xfrm>
            <a:off x="4299120" y="4365720"/>
            <a:ext cx="4608360" cy="3070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акт заключается в соответствии с п. 25 ч.1 ст. 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Прямая со стрелкой 7179"/>
          <p:cNvCxnSpPr>
            <a:stCxn id="96" idx="2"/>
          </p:cNvCxnSpPr>
          <p:nvPr/>
        </p:nvCxnSpPr>
        <p:spPr>
          <a:xfrm>
            <a:off x="2490480" y="1967040"/>
            <a:ext cx="1080" cy="31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7181"/>
          <p:cNvCxnSpPr/>
          <p:nvPr/>
        </p:nvCxnSpPr>
        <p:spPr>
          <a:xfrm>
            <a:off x="6532200" y="40989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Прямая со стрелкой 7184"/>
          <p:cNvCxnSpPr/>
          <p:nvPr/>
        </p:nvCxnSpPr>
        <p:spPr>
          <a:xfrm flipH="1">
            <a:off x="6539760" y="4673520"/>
            <a:ext cx="108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Прямая соединительная линия 7187"/>
          <p:cNvSpPr/>
          <p:nvPr/>
        </p:nvSpPr>
        <p:spPr>
          <a:xfrm>
            <a:off x="6532560" y="318132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7190"/>
          <p:cNvSpPr/>
          <p:nvPr/>
        </p:nvSpPr>
        <p:spPr>
          <a:xfrm>
            <a:off x="6516720" y="226368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ая соединительная линия 7193"/>
          <p:cNvSpPr/>
          <p:nvPr/>
        </p:nvSpPr>
        <p:spPr>
          <a:xfrm>
            <a:off x="6512040" y="16747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6:05:05Z</dcterms:created>
  <dc:creator>Иванкин</dc:creator>
  <dc:description/>
  <dc:language>en-US</dc:language>
  <cp:lastModifiedBy>Екатерина Леонидовна Седых</cp:lastModifiedBy>
  <cp:lastPrinted>2014-07-24T12:27:48Z</cp:lastPrinted>
  <dcterms:modified xsi:type="dcterms:W3CDTF">2014-08-05T05:54:41Z</dcterms:modified>
  <cp:revision>158</cp:revision>
  <dc:subject/>
  <dc:title>АДМИНИСТРАЦИЯ г. ИВАНОВО</dc:title>
</cp:coreProperties>
</file>