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9EB6-1880-42CE-ABD3-E9097FAABB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9397-76FB-43C0-86E4-01ECBBCA45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C62-7E3B-4324-B799-5AA0A5DC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62A-C3EE-407C-AD19-6AC2711B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48482-C77F-4ADE-9FA5-75D5C02D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4BB63-AA83-4ED6-88EC-C26D3BF5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AACA3-D8EA-4DDB-A135-CCC542FA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C1072-A884-478F-AF47-A4BBD4D0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04314-619C-464A-98FB-A40A182A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5E930-0783-473D-B37E-0D21D7B4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C91D3-BCA4-47BD-A418-9C0FCE96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9C81B-BF87-4492-828E-DB6B8434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14EC4-B644-4785-AA99-BDFC2199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2541E-105B-4410-B76C-8FE0BA7E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20E-E5A9-4915-9ECD-5D55F57C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21B53-B210-46E4-B837-BC29509F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94F1B-E3D3-446A-9AD1-4E5CA139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F9146-05FB-421B-B9F3-EF5374A6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B2772-E8AF-42AB-94A0-3AEF8099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D48AA-FB5C-4550-9FD9-936A3BAA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3B47B-C802-4490-B1D7-CBE949E4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C3EF0-E54E-4D92-92BA-32D1DE56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84EA1-0D62-4A04-90CF-9DB7E8CB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4AAF8-379F-482C-A4C7-21156E17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B4957-F487-49D6-B3AC-1A4AD3D6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F6F-2942-49DC-9734-F1D86669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1C6F9-F48B-444E-8DFF-5E8F3635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58C16-E3C2-4207-8434-AE1E5E6B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36E62-DC8B-47BA-8F4F-7A812E61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99614-21E4-44ED-8FCE-8BF3FA05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F53E4-1CFD-4FCA-B2C8-FE795713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BACD3-3A5B-47E8-AC2B-2766A1F0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B6B30-AA14-4F2D-B377-B12A50AD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87210-2E09-4842-8B9E-FC7A5D6C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6FA10-441A-43D1-ABF1-33422CC4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63488-20A6-4306-A397-0A675294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AB95-46A9-4380-92C2-6F651F37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22F4A-7EAD-43AF-BAB7-D6A4CEF0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236D1-51AD-4AD7-B122-5214A7E7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5C77C-F076-426D-87F9-6A894346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BD7ED-9AFC-42CC-9E53-F8F400A5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B1433-63D3-41F8-A2C1-D271B850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65D54-8439-4C82-B1D4-0D400F3C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4D86C-C010-4320-876A-0DF99F3C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E0286-45BA-4096-A6C2-67A5CF0A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8455B-A8ED-44A3-AFAD-C650C878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1BA2D-4F7F-4C2B-BED8-A14305CA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5DB1-DD0F-48DC-895C-9B4D74A5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35A28-2261-4613-B9C2-4199F97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423D4-5EA2-41E3-8736-1F406901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9CC74-2C34-4456-8B9F-684C6074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79071-6DB1-4722-8B28-A977AF64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D120B-23B8-4F7C-A9B8-0F05CADB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4573E-24D1-4E7E-98C3-8287B83A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086C9-8C7F-4111-AFDC-C15CEF54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3E1A4-72FF-459C-B16F-BDA0065F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6B52D-BBBA-40A9-A164-62E9E204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CC999-129B-44BD-A2CE-FF888530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83D2-58D1-4BC5-857F-3A863139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7C154-1F43-4529-A6EB-48028FEF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4808F-7B4C-412A-953D-B83E8A3D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53C75-5A24-4209-B4A6-55580D03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6F94E-FD71-4F21-8DDD-8132837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48B95-90B6-4B12-A259-82A03166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4E427-EC62-41F5-9DE8-77F9C61D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27616-4766-40EF-9DE9-133E3DFB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6C798F-6ABD-4E7B-865E-5D38EB7C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D124C-20C4-46FB-872F-FB38BFE7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752C3-E4A4-4EEB-88CB-C5443B55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35B3-C358-49EE-8217-86AB50B1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DA31E-756E-48BC-B695-121A6FAA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26AF0-824C-4206-9726-28F3D8EA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C434C-2402-4337-B01C-29F2F61D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D23CF-105A-47DD-9A2E-AEA41D7F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6EF14-57F5-4B3C-88E2-B0D1D55F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A99AF-C01F-44E5-871C-D4BEBBA2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1CF5F-A396-4913-BFD6-043958DE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BEC60-6F03-4652-A1DE-6A530487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53403-AB26-48C9-9D49-047417C1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22A9E-F4CB-4E4B-9F5B-167AB08A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4124-A985-48FD-ADE3-418A2D9B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C268F-22E7-47AF-980A-CCA8FD66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D550F-ADE5-422E-9219-4E4630D5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6B9CC7-AE22-4CC1-B16B-11632B92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10245-EDE7-4F47-B253-0D0C105D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D50992-27EF-4EAE-A3C3-6A1E28B8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52258B-14E4-4458-9EE7-3A437F01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27FECB-ADA1-4747-A870-607FDFA8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2D5C3-6CBC-452F-97F2-D8486691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CD72EF-D777-4958-B7A1-57DF8F45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AF20F-78D2-44F4-9338-5FAC8FAD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8FCB-4DCE-49E2-895E-A8C49523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02319-9318-4F7C-A1CB-4D08D84F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EDD02-8409-443C-A75C-8ECF668A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077391-DDA3-4A3C-8B54-D26E3064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9AA912-9981-4497-B5F3-E516BC7C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10253E-80B2-45C3-B436-E5852D08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A3FD8-C6B0-4DA9-A9DC-64D658FB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AAAED6-B1E3-4FF9-AB89-4A05C4A5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0C726-7EEC-43E5-B798-8DA101B3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FC12F-BAF7-441D-BA52-485A5FE4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AAC12F-9686-4596-B2CD-2EE12DCC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BD72-CE53-4871-B144-0F019245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9B6F8-02FA-488B-8FD2-EADDF3CD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A3CCA-46EC-4BF6-BA8D-F620E0F5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E8E16-95A0-4D44-8268-804270F2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35648-FC7A-43BE-8AB0-B4D21E7B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B9B00D-6E3B-4F8C-B8DA-3B22A57E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537D63-10EB-41D2-9BA7-482D3DFB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A3BC61-B156-4A01-AB06-97CF50DA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2906A8-C0ED-4ED4-A66D-7427B886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6F217-5C2D-4F44-B76A-8E18CCF9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673DA-8294-46EB-A8C2-468CA98E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623-2DD1-40F4-BF15-BA65A9BC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0FEC-0C03-4AE2-802D-A0CD389B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C0E63-96E1-4418-96D2-DED4D966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7B208-30AC-4662-8837-E16CFB50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A7B312-8DCE-47EF-9B56-0A4333DC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5A3BA-1837-4034-B1CA-70FEBF6B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980AE-9C69-4FC6-BF0D-C33F9612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E3FBB5-85D5-4F7D-801A-E5855D09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402BF4-8493-4E06-926F-449BD06F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2CBFA-40C5-48F1-9C3A-C2007F57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82B00-D87F-46EF-B644-0003399C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81363-4263-4679-99AC-24937A2A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30A0-CBD5-49FC-8E1C-B30A05EE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8AA8C8-02AD-4474-BC84-04DE5E15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B1331-2F8F-48EF-9E9A-F1B3F36F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EBC967-365A-4079-BA5B-2E42AB36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861C9-DE0E-46AF-A3BD-F522C45C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851AA-2ABC-493C-8C14-D284A3AF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75E4A9-3D94-4588-8A98-A54D2A1F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AAE580-A463-40C8-B245-CBFD093F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75288-2C82-4752-A37C-0B50F4DF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425828-5EA2-476E-96C0-F8E442BD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D9D974-554D-44DB-AB1A-C4C5B9EF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927B-E904-454F-8B23-09E4DCB0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BAB32-2664-468D-9A3B-4F697554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539611-7ED2-4944-8E44-6E556895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708AC6-8121-44D2-91EC-D28BDBE7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5DE0A6-9354-49BE-8DFA-4414C5F7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984D84-CE93-4222-8FC2-887F08A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F8A0E7-3868-4FC2-89D2-81E2A469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90E22-4B88-4613-BA8F-E1DBF56A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58A30-584D-4467-86D1-0F14C67D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E10CB-6443-4729-AA59-6E1B12FF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267EBF-643C-4465-B187-EB66F9CD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FF08-B3CF-4DFE-8F4E-00964141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04AFBC-0FCD-421D-BE53-12424966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0E8C4-4F03-4E5F-A2DB-3D42AF6B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0387D-B162-420C-97D9-3847460C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FE2BFE-224F-4F2C-85C2-5B176760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A79B2-F0EC-4ACB-8F47-0527D3A8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DF0058-7D18-48F2-BA9E-71FD0483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08F15F-9FBA-4770-B6BB-1225549A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3A5334-0D0C-4D4E-919E-0540BEDE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B55B2C-3E94-4EA7-A5B6-931AC4E5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559D3B-A556-4BD1-BBC5-FBDF6811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F131-931C-4559-9A53-F37CB048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AFC8B-5512-4ACC-AC8B-B55C7464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7ED098-4BE8-4320-B7B6-8FB2F0FA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8D0215-9FF9-4EBB-9DC7-4702DE0E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DE46B-B86B-487E-8D7D-FDDA3D6C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A3196A-47D6-48DC-9280-4DF8970D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438BD8-7C94-4421-8500-89478727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E6F930-225E-464D-8085-AD098650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B66710-0387-49C3-AC6C-7B1B635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333E6E-A630-4935-9168-60BE9074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04C42A-D789-456D-A8CC-6AF1985F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C999-6305-4AD9-B7BC-1678CF27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40FB31-EFA8-489C-A61E-06FD6DD1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D88448-8071-4C5A-9DE6-C0240A78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6ACFE-AA33-40BB-BEDA-9BBB2E2B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82444-7A4A-446A-9CA6-24651E32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61B01E-1CD3-4475-B02E-0B37CA12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781D2C-DEB7-479C-BE0A-16089C3D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1375EC-8CA5-486F-91A7-93C9AF43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56BDBA-4BCA-4D82-AC94-1EC0B0A8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9174EA-B898-4013-A520-FA43A25B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05C06E-F748-41E8-AEF4-AA721E99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753E-247B-4716-8109-591490B8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81B005-23B5-4827-9FEB-F586305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4FD4D7-03CF-48B6-9684-4C0AD3D8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12C35A-ED68-4873-AF99-968A2310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7F8D64-45B8-4FE0-9560-6608D546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22C662-03C6-4CD6-8BCA-A792D372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3D07C2-4182-4287-8AE0-5F3C0DD9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1DC58D-87F1-4983-816E-5F6B8C88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B941F2-B0FD-42B3-94C9-93642347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28A7A6-17BC-4DB6-95BF-FCF96EA0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1A757F-8960-4559-9017-E385E460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1CEE-AE8D-45CA-BB1F-38B50110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4185A3-0C3C-4A23-BF8F-06FBFC16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1D2AB1-2012-4930-AE2B-07443AA3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B12C61-A31E-400F-9375-3214BEA4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A5ADED-44B4-4D0D-B477-8C7CDBE4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DEA934-553C-4BA1-9B87-3696DC5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15D9FE-6028-408E-8434-D05D1AF6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C4B4E6-F8F7-497A-84CE-DBAD2031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877E28-8A74-4A35-8A1C-589BA5F6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054882-935B-4BAA-9E80-3349E87D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1874BD-FD1D-4D2F-AD40-0644BE7F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8020-3DF2-4CA5-86D5-19A4E565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94D15D-2147-47CE-A4D2-10359574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82A8A7-9D50-482A-B0A2-FE06F738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A43D85-D572-46B1-962F-320B63CE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1420BB-9901-4810-8D32-B79D14C5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57AC92-9B34-40AB-B116-20146C31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987AD2-ADAD-48DF-8697-D0B8EDAE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072121-4C6A-470B-A127-AEB9BA3C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A33BF0-E197-4084-93A2-48E2B788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2FB253-2744-4D5D-A54B-5B19AB7D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3BF2-49C6-432D-83EC-D4D151F0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6E4-E47A-46A8-85D6-82C30935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1188-0102-4C6D-99D9-C67999F1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AC949-C14A-4346-AFE6-9C347C3A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94A3-8E10-4379-A7C1-2898B3BF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8870-2A68-4BCE-920A-3EB8EAAC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D9E3-A348-4F52-A139-84A855CB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3CD8-FA91-4857-B496-47400EF9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D66AC-2ABA-444A-9C14-E009557E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9B35-BCCB-4BC9-8682-A3E350E6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EDD16-4416-45B6-87B2-0E205CA2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7C39E-19C1-4A41-A169-92C8E1A0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1BF-ECCB-4478-A7B8-53F320B5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ABAA7-56AD-45B3-81E7-AB3DA8A2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4A9C2-EC23-44E4-B72F-FFFEAF41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59CA4-56BC-48DA-9ABC-FD09D3E1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4600-F551-4BF3-BA4E-50A79F05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9C45-0025-472B-9589-E454639A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C246B-0A50-49B3-9784-3EABB51A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AFA97-01BB-4DEB-9A80-4416DF61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FBBD1-B8D0-474C-9156-77556764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5E51-1A7C-4AC5-B467-AEDB1AAE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C99A1-3384-4B2E-B982-73487104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79A-4A9B-4BF4-AFA3-172EEF9F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1F735-ED0F-49DC-9A2B-9D28980B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E903-D7FD-43CE-8CBA-F1B85B01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CDD5-A78D-427B-896A-4D1A5678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7DB94-939C-47FD-876C-B15F4504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FE78A-32AD-44C5-ACE9-7A6E025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DACD2-FBDA-475C-9E64-4F049724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5FC1F-6773-42C1-A706-D089E58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075B9-68B0-45C1-95D7-B11C516B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1343-009D-420F-8771-F202BB58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22174-1BC3-4676-B93C-D9F104F5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C58-9762-4E71-9668-7696D16E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65327-2FD7-41CF-9C2E-8B34F6E5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5E508-C9AA-4FEE-A158-FF248BE1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4DC03-8B8E-4219-B493-B186BFD4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D30F9-CA6A-4B2A-B35F-8FA28ADF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62834-BFB4-4648-A795-54697C23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69A20-C2A9-457E-8DAF-7505FA93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84DA1-65BD-4247-AEE0-5F75AAF7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11F00-5783-4E66-945E-4C7E79D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9E216-1EE2-48F4-A569-4F3302A4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7E7A5-984D-4441-9D02-67EA1FE0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498-92B6-458F-88E9-2F8FD299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CC23F-6B73-46D7-BC9E-B7D57F77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DBA80-1D52-42B2-BD37-2415A344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9581-A9AF-464A-A4F5-8363869C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31080-BD7B-4D70-8A08-531E9625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A6605-8319-4C12-B6C1-9DE2A2DF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4CFD0-52AE-4032-8307-47FA5357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E57AF-C5AF-442B-A952-D142D11E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F95D9-49E1-4EAE-9750-E212BEA2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CC182-5C2F-495F-8644-771D13F6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15ED8-4F69-4C26-BB14-0290F7D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DE2-5656-4D47-B550-9CCB4025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302AA-2E1C-4684-A041-AFDDFFBC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1F129-B806-47A7-A4DE-2649D236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5595F-83CF-43E7-9D5A-D0A4BDDC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508C8-410C-422D-9807-92C93AE7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428F6-E736-4F34-A14E-B6A79A20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C6EDD-7071-4B96-95C3-30C38CFD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1538C-26EE-4443-AE1C-0582B657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C9940-0B0A-4A21-8E82-417AB8B3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20088-D35B-48F5-8407-B81D5DE7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88F5C-3BA3-4A75-A031-CA46F8FB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9F4-F277-4679-8CCE-EA8EB374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13EF6-7BF8-47C3-9053-48FA5DEE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B6545-F8FC-4DAB-8617-12290774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8DCE0-3834-44AA-9C8B-4A273690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C9071-A6C1-4663-8C8F-4D6E0FD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61E61-B20B-44E9-AE52-63A06AF3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B28E7-92E7-44BC-A2A5-D4D1494C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4EC98-7F25-4D93-823D-C0C53473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81FC6-B5B2-4F27-A742-63B6F649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BE11B-9D67-40F3-8561-A9B0502C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80475-6379-4719-9A9D-FF9FC66C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86E7-62AE-4D26-8E4E-507EEBD88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6793-DC08-4D27-81F6-33AE91794D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3847-EAB3-4EB2-9E79-6ABB0E2BEF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9691-6D5B-47F8-9601-62E6A792C7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5A3E-6423-45DE-8A43-BFDD8BB4F9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ADBD-653D-4A96-8C9E-5A51DC84E7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B557-33A4-45B6-8B0B-8826FE0680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D6B4-0645-4039-B3C3-F77E1B9B3A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4DE9-EA79-4C81-8E8A-3EE5DEB347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EE8D-43F8-4766-BD89-8A5FD4DADE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AE09-855D-4986-8877-076FE50419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42B1-89E8-4FF7-9B2D-F8F80C36B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54E3-0393-42E6-8FFE-DBC65ABF00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0E4B-CC29-4902-9EF8-021B035072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6607-4A98-4A87-A09B-3CC55F1C6F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1FEB-C499-428D-8845-BB647F2BCB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5DF1-5866-4F54-8853-3EAFC940AA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E324-224A-4CEC-9A02-203AFF9B75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8C44-B76F-4B73-A963-4AD4DF2C41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B870-1FB7-4F54-86BC-6A6BE8FAC1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AB91-4775-4CCF-A2BA-543035EF69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4400-E1BB-4CE3-BF83-CC52918864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F429-5193-4CDB-A937-F06CC955E0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9558-84BD-4A29-B19D-F58B1FC371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55560" y="5412960"/>
            <a:ext cx="8064720" cy="792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 заключаетс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через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 дне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через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дцать дне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ты размещ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диной информационной систем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отрения и оценки заявок на участие в конкур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ключенном контрак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зчик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-х рабочих дней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ет в реестре контрактов на О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3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122400"/>
            <a:ext cx="8448480" cy="871200"/>
          </a:xfrm>
          <a:prstGeom prst="rect">
            <a:avLst/>
          </a:prstGeom>
          <a:ln w="0">
            <a:noFill/>
          </a:ln>
        </p:spPr>
      </p:pic>
      <p:sp>
        <p:nvSpPr>
          <p:cNvPr id="994" name="Стрелка вниз 4"/>
          <p:cNvSpPr/>
          <p:nvPr/>
        </p:nvSpPr>
        <p:spPr>
          <a:xfrm>
            <a:off x="4313160" y="765000"/>
            <a:ext cx="576360" cy="28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Стрелка вниз 6"/>
          <p:cNvSpPr/>
          <p:nvPr/>
        </p:nvSpPr>
        <p:spPr>
          <a:xfrm>
            <a:off x="4308480" y="3564000"/>
            <a:ext cx="576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Прямоугольник 7"/>
          <p:cNvSpPr/>
          <p:nvPr/>
        </p:nvSpPr>
        <p:spPr>
          <a:xfrm>
            <a:off x="622440" y="2455920"/>
            <a:ext cx="7993080" cy="1044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н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ы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мещ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  официальном сайт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 рассмотрения и оценки заявок на участие в конкурс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бедит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ур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ть контрак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дставить все экземпляры контракта заказчику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обеспечение исполнения контрак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Прямоугольник 8"/>
          <p:cNvSpPr/>
          <p:nvPr/>
        </p:nvSpPr>
        <p:spPr>
          <a:xfrm>
            <a:off x="611280" y="1052640"/>
            <a:ext cx="8064360" cy="100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зчик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3 рабочих дн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ы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пис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окол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я и оценки заявок на участие в конкурсе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отрения единственной заявки на участие в конкурс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ет победителю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ы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риложением проекта контракта, который составляется путем включения в данный проект условий контракта, предложенных победителем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Стрелка вниз 9"/>
          <p:cNvSpPr/>
          <p:nvPr/>
        </p:nvSpPr>
        <p:spPr>
          <a:xfrm>
            <a:off x="4348080" y="2060640"/>
            <a:ext cx="5414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Скругленный прямоугольник 10"/>
          <p:cNvSpPr/>
          <p:nvPr/>
        </p:nvSpPr>
        <p:spPr>
          <a:xfrm>
            <a:off x="655560" y="3933720"/>
            <a:ext cx="8064720" cy="111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н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ы получен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обедителя конкурса или участника конкурса, заявке на участие в конкурсе которого присвоен второй номер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нного контракт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ложением документов, подтверждающих предоставление обеспечения исполнения контракта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зчик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н подписать контракт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редать один экземпляр контракта лицу, с которым заключен контрак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Стрелка вниз 11"/>
          <p:cNvSpPr/>
          <p:nvPr/>
        </p:nvSpPr>
        <p:spPr>
          <a:xfrm>
            <a:off x="4356000" y="5052960"/>
            <a:ext cx="576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Схема 2" descr=""/>
          <p:cNvPicPr/>
          <p:nvPr/>
        </p:nvPicPr>
        <p:blipFill>
          <a:blip r:embed="rId1"/>
          <a:stretch/>
        </p:blipFill>
        <p:spPr>
          <a:xfrm>
            <a:off x="109440" y="1017720"/>
            <a:ext cx="8858520" cy="49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6:05:05Z</dcterms:created>
  <dc:creator>Иванкин</dc:creator>
  <dc:description/>
  <dc:language>en-US</dc:language>
  <cp:lastModifiedBy>Екатерина Леонидовна Седых</cp:lastModifiedBy>
  <cp:lastPrinted>2014-07-24T12:27:48Z</cp:lastPrinted>
  <dcterms:modified xsi:type="dcterms:W3CDTF">2014-08-05T05:59:09Z</dcterms:modified>
  <cp:revision>156</cp:revision>
  <dc:subject/>
  <dc:title>АДМИНИСТРАЦИЯ г. ИВАНОВО</dc:title>
</cp:coreProperties>
</file>