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839450" cy="7761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A5F3-E65F-4E85-B4D4-9044356D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1080" y="1811160"/>
            <a:ext cx="97549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1080" y="4486320"/>
            <a:ext cx="97549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6C1B-EDDA-4E9D-B795-19275969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1080" y="181116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39680" y="181116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1080" y="448632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39680" y="448632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0A5A-F53A-4220-A6A6-FE40FEDE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1080" y="1811160"/>
            <a:ext cx="31410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39400" y="1811160"/>
            <a:ext cx="31410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38080" y="1811160"/>
            <a:ext cx="31410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1080" y="4486320"/>
            <a:ext cx="31410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39400" y="4486320"/>
            <a:ext cx="31410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38080" y="4486320"/>
            <a:ext cx="31410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4D16-FE10-452A-8B89-87113F8C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1080" y="1811160"/>
            <a:ext cx="975492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0EC4-77F2-482F-953D-CDBE187B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1080" y="1811160"/>
            <a:ext cx="97549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3E98-4822-4F7A-8CD3-AE616B6C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1080" y="1811160"/>
            <a:ext cx="476028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39680" y="1811160"/>
            <a:ext cx="476028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A326-D54D-43B1-A3E6-C4453F45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1D42-1B14-40ED-9EFC-2A330345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1080" y="311040"/>
            <a:ext cx="975492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BEE8-D4D3-418C-9CE8-64964122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1080" y="181116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39680" y="1811160"/>
            <a:ext cx="476028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1080" y="448632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C051-54B4-45E3-A78D-AF189810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1080" y="1811160"/>
            <a:ext cx="476028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39680" y="181116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39680" y="448632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9327-38AD-4E5A-8252-88856D1C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1080" y="181116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9680" y="1811160"/>
            <a:ext cx="476028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1080" y="4486320"/>
            <a:ext cx="97549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8FB8-7351-45B3-89EC-7C461A49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1080" y="311040"/>
            <a:ext cx="97549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1080" y="1811160"/>
            <a:ext cx="97549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1440" y="7067160"/>
            <a:ext cx="252864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03320" y="7067160"/>
            <a:ext cx="343044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67720" y="7067160"/>
            <a:ext cx="252864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8317-18E8-42A8-B274-6DF99F4D1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" descr=""/>
          <p:cNvPicPr/>
          <p:nvPr/>
        </p:nvPicPr>
        <p:blipFill>
          <a:blip r:embed="rId1"/>
          <a:stretch/>
        </p:blipFill>
        <p:spPr>
          <a:xfrm>
            <a:off x="304920" y="1562040"/>
            <a:ext cx="10397880" cy="5715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" descr=""/>
          <p:cNvPicPr/>
          <p:nvPr/>
        </p:nvPicPr>
        <p:blipFill>
          <a:blip r:embed="rId1"/>
          <a:stretch/>
        </p:blipFill>
        <p:spPr>
          <a:xfrm>
            <a:off x="266760" y="304920"/>
            <a:ext cx="10325160" cy="58291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10477440" cy="69343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" descr=""/>
          <p:cNvPicPr/>
          <p:nvPr/>
        </p:nvPicPr>
        <p:blipFill>
          <a:blip r:embed="rId1"/>
          <a:stretch/>
        </p:blipFill>
        <p:spPr>
          <a:xfrm>
            <a:off x="266760" y="228600"/>
            <a:ext cx="10363320" cy="73152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0363320" cy="71629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10553760" cy="35049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" descr=""/>
          <p:cNvPicPr/>
          <p:nvPr/>
        </p:nvPicPr>
        <p:blipFill>
          <a:blip r:embed="rId1"/>
          <a:stretch/>
        </p:blipFill>
        <p:spPr>
          <a:xfrm>
            <a:off x="380880" y="952560"/>
            <a:ext cx="10325160" cy="59436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" descr=""/>
          <p:cNvPicPr/>
          <p:nvPr/>
        </p:nvPicPr>
        <p:blipFill>
          <a:blip r:embed="rId1"/>
          <a:stretch/>
        </p:blipFill>
        <p:spPr>
          <a:xfrm>
            <a:off x="190440" y="76320"/>
            <a:ext cx="10439640" cy="41907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06:36:33Z</dcterms:created>
  <dc:creator>2</dc:creator>
  <dc:description/>
  <dc:language>en-US</dc:language>
  <cp:lastModifiedBy>2</cp:lastModifiedBy>
  <dcterms:modified xsi:type="dcterms:W3CDTF">2009-02-13T06:36:56Z</dcterms:modified>
  <cp:revision>1</cp:revision>
  <dc:subject/>
  <dc:title>Слайд 1</dc:title>
</cp:coreProperties>
</file>